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887C-B32F-47AD-9DE4-776AD8EFD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6103-64DF-4C7B-9715-29D1DF60D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DFF8-4836-4854-A3E9-32905B249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DBC3-0ABC-4277-BB39-4DFF8817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7653-902C-4F62-AD97-22E0868F6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C440-619C-4C6B-9B8D-DD5C1A5CC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3E57-0F68-4FFA-B837-9ADCEA1F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9F66-FA47-48C9-9275-9913B236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7FDE-DEA9-40B9-8B6A-7485B6E4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2564-CA6C-4608-AE6E-2AB55333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1839-70C9-4870-9329-E68E8E10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CDD3-74F1-4414-B8FA-CBF36957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EA7E-73A3-4041-BA00-B8BB4E8D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5ED2-5EC4-4F70-AF5B-273702C3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2273-0A29-4B36-A175-D902F2BCA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oureen Sh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Noureen S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Noureen Sher (1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Noureen Sher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Noureen Sher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9528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ra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i nombre es Noureen Sher. Yo soy de los Estados Unidos. Yo amo la música y el canto. Tengo trece años. Yo amo One Direction, Ed Sheeran, Little Mix, and Taylor Swift. </a:t>
            </a:r>
            <a:r>
              <a:rPr b="0" lang="en-US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Yo soy extrovertida y graciosa. Yo soy inteligente y joven.Yo no muerden, add me! </a:t>
            </a:r>
            <a:r>
              <a:rPr b="0" lang="en-US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685800" y="57150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en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400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a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371600" y="571500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d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3886200"/>
            <a:ext cx="373392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JAJAJA. :D Tú eres linda, Noureen! </a:t>
            </a:r>
            <a:r>
              <a:rPr b="0" lang="en-US" sz="800" spc="-1" strike="noStrike">
                <a:solidFill>
                  <a:srgbClr val="343434"/>
                </a:solidFill>
                <a:latin typeface="Arial"/>
              </a:rPr>
              <a:t> Quieres mi para hornear pastelitos?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 Qué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sabor?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  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Kiara Zapan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uenas tardes, Noureen!¿Quieres ir de compras en 1D World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   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adia Uddin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No puedo esperar para mi cumpleaños!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Diciembre 3 de 2012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oureen Sh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Noureen Sh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ede tú hacer pastelitos de vanilla? Cuánto? Yo tengo que 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666880" y="5029200"/>
            <a:ext cx="4419720" cy="6858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Zena Youss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Buenas noches, Noureen! </a:t>
            </a:r>
            <a:r>
              <a:rPr b="0" lang="en-US" sz="800" spc="-1" strike="noStrike">
                <a:solidFill>
                  <a:srgbClr val="343434"/>
                </a:solidFill>
                <a:latin typeface="Arial"/>
              </a:rPr>
              <a:t>¿Quieres comer en un restaurante?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43434"/>
                </a:solidFill>
                <a:latin typeface="Arial"/>
              </a:rPr>
              <a:t>Nosotras debería ir juntos.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óla! Cómo están mis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2"/>
          <p:cNvSpPr/>
          <p:nvPr/>
        </p:nvSpPr>
        <p:spPr>
          <a:xfrm>
            <a:off x="685800" y="640080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hfoo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76320" y="5943600"/>
            <a:ext cx="571320" cy="428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609480" y="5334120"/>
            <a:ext cx="533520" cy="398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685800" y="5943600"/>
            <a:ext cx="685800" cy="458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4"/>
          <a:stretch/>
        </p:blipFill>
        <p:spPr>
          <a:xfrm>
            <a:off x="1219320" y="5257800"/>
            <a:ext cx="685800" cy="458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5"/>
          <a:stretch/>
        </p:blipFill>
        <p:spPr>
          <a:xfrm>
            <a:off x="76320" y="990720"/>
            <a:ext cx="18237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3:51:31Z</dcterms:created>
  <dc:creator>FriscoISD</dc:creator>
  <dc:description/>
  <dc:language>en-US</dc:language>
  <cp:lastModifiedBy>NYCDOE</cp:lastModifiedBy>
  <dcterms:modified xsi:type="dcterms:W3CDTF">2012-12-07T14:23:43Z</dcterms:modified>
  <cp:revision>105</cp:revision>
  <dc:subject/>
  <dc:title>Profile</dc:title>
</cp:coreProperties>
</file>